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29.jpeg" ContentType="image/jpeg"/>
  <Override PartName="/ppt/media/image38.gif" ContentType="image/gif"/>
  <Override PartName="/ppt/media/image15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8F7C-052B-45F0-8AA2-C9E433A1F2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4FFE-7A95-45C0-B530-7FBD47F6DF6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gao tuber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A0ED-3DCF-47A5-9A96-C7153FC4F5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C43-4439-4DDC-BF5D-A2D06FFE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BE0-215E-4749-A93F-25292E63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15E-07F5-4B86-9AE0-8E9953FC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7C9-8C91-4248-8583-6F96281D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75B-DB9B-41C4-B361-F506FFC7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0A0-34E1-4C08-93CB-EC530A50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2E3-C09D-40BE-A0A2-08A5ED74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33C-99B3-4546-BBE8-18168B1A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A05-C3D2-40E2-BCE5-A9050D92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BF0-834D-4E1C-954F-4FE75428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611-2EB9-428B-BD38-731850A9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E91-3133-49EB-966D-CCE5F8A1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AAA5-350F-480B-9C48-23C536F9C958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Радиологија</a:t>
            </a:r>
            <a:br>
              <a:rPr sz="4000"/>
            </a:b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темпоромандибуларних</a:t>
            </a:r>
            <a:r>
              <a:rPr b="0" lang="sr-Latn-CS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зглобов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роф др Снежана Луки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2700360" y="549360"/>
          <a:ext cx="7192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49360"/>
                    <a:ext cx="719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агиб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адњег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и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туберкулум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367164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33</a:t>
            </a:r>
            <a:r>
              <a:rPr b="1" lang="sr-Latn-CS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вариј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20-55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3492360" y="549360"/>
            <a:ext cx="5327640" cy="4005000"/>
            <a:chOff x="3492360" y="549360"/>
            <a:chExt cx="5327640" cy="4005000"/>
          </a:xfrm>
        </p:grpSpPr>
        <p:pic>
          <p:nvPicPr>
            <p:cNvPr id="91" name="Picture 4" descr=""/>
            <p:cNvPicPr/>
            <p:nvPr/>
          </p:nvPicPr>
          <p:blipFill>
            <a:blip r:embed="rId1"/>
            <a:srcRect l="6332" t="41028" r="47931" b="28585"/>
            <a:stretch/>
          </p:blipFill>
          <p:spPr>
            <a:xfrm>
              <a:off x="3492360" y="549360"/>
              <a:ext cx="5327640" cy="400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92" name="Group 19"/>
            <p:cNvGrpSpPr/>
            <p:nvPr/>
          </p:nvGrpSpPr>
          <p:grpSpPr>
            <a:xfrm>
              <a:off x="3781440" y="1577520"/>
              <a:ext cx="3814920" cy="1419480"/>
              <a:chOff x="3781440" y="1577520"/>
              <a:chExt cx="3814920" cy="1419480"/>
            </a:xfrm>
          </p:grpSpPr>
          <p:sp>
            <p:nvSpPr>
              <p:cNvPr id="93" name="Line 5"/>
              <p:cNvSpPr/>
              <p:nvPr/>
            </p:nvSpPr>
            <p:spPr>
              <a:xfrm>
                <a:off x="3781440" y="2852640"/>
                <a:ext cx="3814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7"/>
              <p:cNvSpPr/>
              <p:nvPr/>
            </p:nvSpPr>
            <p:spPr>
              <a:xfrm flipV="1">
                <a:off x="4108320" y="1577520"/>
                <a:ext cx="2119320" cy="141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rc 16"/>
              <p:cNvSpPr/>
              <p:nvPr/>
            </p:nvSpPr>
            <p:spPr>
              <a:xfrm rot="1107000">
                <a:off x="5289480" y="2195280"/>
                <a:ext cx="576360" cy="565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127" y="0"/>
                    </a:moveTo>
                    <a:cubicBezTo>
                      <a:pt x="12007" y="70"/>
                      <a:pt x="21600" y="9720"/>
                      <a:pt x="21600" y="21600"/>
                    </a:cubicBezTo>
                  </a:path>
                  <a:path stroke="0" w="21600" h="21600">
                    <a:moveTo>
                      <a:pt x="127" y="0"/>
                    </a:moveTo>
                    <a:cubicBezTo>
                      <a:pt x="12007" y="70"/>
                      <a:pt x="21600" y="9720"/>
                      <a:pt x="21600" y="21600"/>
                    </a:cubicBezTo>
                    <a:lnTo>
                      <a:pt x="0" y="21600"/>
                    </a:lnTo>
                    <a:lnTo>
                      <a:pt x="127" y="0"/>
                    </a:lnTo>
                    <a:close/>
                  </a:path>
                </a:pathLst>
              </a:custGeom>
              <a:noFill/>
              <a:ln w="2844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" name="Rectangle 18"/>
          <p:cNvSpPr/>
          <p:nvPr/>
        </p:nvSpPr>
        <p:spPr>
          <a:xfrm>
            <a:off x="3870000" y="4869000"/>
            <a:ext cx="44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оризонтал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пој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еме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уберкулум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еме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нтеркондиларни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гао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17672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150</a:t>
            </a:r>
            <a:r>
              <a:rPr b="1" lang="sr-Latn-CS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39640" y="2924280"/>
            <a:ext cx="35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ксиј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ин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теринцизалн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гит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аја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јистакнут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ачк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268880" cy="58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Line 10"/>
          <p:cNvSpPr/>
          <p:nvPr/>
        </p:nvSpPr>
        <p:spPr>
          <a:xfrm>
            <a:off x="4500720" y="3141720"/>
            <a:ext cx="237636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6227640" y="3357720"/>
            <a:ext cx="216072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516720" y="549360"/>
            <a:ext cx="73080" cy="532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rc 17"/>
          <p:cNvSpPr/>
          <p:nvPr/>
        </p:nvSpPr>
        <p:spPr>
          <a:xfrm rot="19603200">
            <a:off x="5724360" y="3357360"/>
            <a:ext cx="1584360" cy="1223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ужин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хо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глав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мандибул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мм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±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3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сублуксац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5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Луксац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8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Крет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капитули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фронт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каудал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врх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туберкулу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ар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rcRect l="5572" t="0" r="0" b="0"/>
          <a:stretch/>
        </p:blipFill>
        <p:spPr>
          <a:xfrm>
            <a:off x="4932360" y="3284640"/>
            <a:ext cx="3311640" cy="31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3116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Line 13"/>
          <p:cNvSpPr/>
          <p:nvPr/>
        </p:nvSpPr>
        <p:spPr>
          <a:xfrm flipV="1">
            <a:off x="5651640" y="4292640"/>
            <a:ext cx="433080" cy="288720"/>
          </a:xfrm>
          <a:prstGeom prst="line">
            <a:avLst/>
          </a:prstGeom>
          <a:ln w="2844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5796000" y="1341000"/>
            <a:ext cx="433440" cy="289080"/>
          </a:xfrm>
          <a:prstGeom prst="line">
            <a:avLst/>
          </a:prstGeom>
          <a:ln w="2844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01560" y="1082520"/>
            <a:ext cx="5400720" cy="24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84720" y="2565000"/>
            <a:ext cx="30592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попла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нилатера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попла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илатер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5381640" cy="24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Rectangle 1"/>
          <p:cNvSpPr/>
          <p:nvPr/>
        </p:nvSpPr>
        <p:spPr>
          <a:xfrm rot="20127600">
            <a:off x="5386680" y="1413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Garamon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5400720" cy="24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84720" y="2565000"/>
            <a:ext cx="305928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пертроф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 rot="19756200">
            <a:off x="5472360" y="134136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Garamond"/>
              </a:rPr>
              <a:t>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99"/>
                </a:solidFill>
                <a:latin typeface="Arial"/>
              </a:rPr>
              <a:t>Запаљењ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Акутно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пиог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ностра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редње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х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драж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нов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ел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пе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граниче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е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ксуда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99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ко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2-3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иж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ндибул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1" descr="Gray311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286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84720" y="1184040"/>
            <a:ext cx="43927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Хр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остеомие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зур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рскавиц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есорпциј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еактив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клеро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к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фигур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99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правил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ж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тектив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26920" y="189000"/>
            <a:ext cx="32403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8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26920" y="3429000"/>
            <a:ext cx="32403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Rectangle 1"/>
          <p:cNvSpPr/>
          <p:nvPr/>
        </p:nvSpPr>
        <p:spPr>
          <a:xfrm>
            <a:off x="2247840" y="17002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Garamon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947960" y="4863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Garamon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Хр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трауматс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зв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ор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преза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жвакањ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к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руп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ош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тез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аб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раже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бјектив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гоб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новиј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м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дебља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руб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мање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ластичнос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99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чет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ро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фор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формант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ро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рај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во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килоз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295272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29383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Rectangle 12"/>
          <p:cNvSpPr/>
          <p:nvPr/>
        </p:nvSpPr>
        <p:spPr>
          <a:xfrm>
            <a:off x="974520" y="52380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973800" y="59961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43280" y="1268280"/>
            <a:ext cx="4043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Артропатија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-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реуматоидн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артр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кутно: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ронично: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ж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килоз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с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фигур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л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дијал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алн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зиц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ев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напре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"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мпримо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стериор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убо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ос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rcRect l="55293" t="0" r="1341" b="0"/>
          <a:stretch/>
        </p:blipFill>
        <p:spPr>
          <a:xfrm>
            <a:off x="971640" y="549360"/>
            <a:ext cx="28796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9" descr=""/>
          <p:cNvPicPr/>
          <p:nvPr/>
        </p:nvPicPr>
        <p:blipFill>
          <a:blip r:embed="rId2"/>
          <a:srcRect l="2452" t="0" r="52841" b="0"/>
          <a:stretch/>
        </p:blipFill>
        <p:spPr>
          <a:xfrm>
            <a:off x="971640" y="3500280"/>
            <a:ext cx="2879640" cy="28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Луксациј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280" y="4221000"/>
            <a:ext cx="7715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ностра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рауматс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т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псулар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у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нди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ертик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менз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шир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рад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ложај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виј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драв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ран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бостра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абитуал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широ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ор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р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ежа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азни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спре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х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576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8" descr="ishrana1"/>
          <p:cNvPicPr/>
          <p:nvPr/>
        </p:nvPicPr>
        <p:blipFill>
          <a:blip r:embed="rId2"/>
          <a:stretch/>
        </p:blipFill>
        <p:spPr>
          <a:xfrm>
            <a:off x="826920" y="2492280"/>
            <a:ext cx="1944720" cy="137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440" y="13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Снимак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темпоралних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костију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5572" t="0" r="0" b="0"/>
          <a:stretch/>
        </p:blipFill>
        <p:spPr>
          <a:xfrm>
            <a:off x="971640" y="3933720"/>
            <a:ext cx="259236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4240" y="1297080"/>
            <a:ext cx="411480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ch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ü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l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ежећ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а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рзал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кубитус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фил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ентрални зр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на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упрот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мпор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ндибулар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25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30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ауда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кошењ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Обавез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затворена</a:t>
            </a:r>
            <a:r>
              <a:rPr b="0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и</a:t>
            </a:r>
            <a:r>
              <a:rPr b="0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отворена</a:t>
            </a:r>
            <a:r>
              <a:rPr b="0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99"/>
                </a:solidFill>
                <a:uFillTx/>
                <a:latin typeface="Arial"/>
              </a:rPr>
              <a:t>ус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2560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227640" y="4842000"/>
            <a:ext cx="216072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1717560" cy="19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Ц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јекц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зо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к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фори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зициони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териор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мер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стеиор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ор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клуз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x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орени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ти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ди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зиц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миненти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с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локир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289224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2879640" cy="28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Тризмус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лаз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могућнос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арањ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зроц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пш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танус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ров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рихни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н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дул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блонга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окал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имаксилар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имандибулар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донтоге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кл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еритонзилар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арафарингеал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легмо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стикаторних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ишић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C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те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y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4038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1934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а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достат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руп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тра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мећ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ертик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имен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иц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во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мећа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ов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ушн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пара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ле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ег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ста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куп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мпто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Главобољ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уцкет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шкљоц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уј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шим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апушено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в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емогућно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тварањ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затварањ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ст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граничен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ретањ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мандубул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отетс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брињав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битк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ногих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мпт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09564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те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ch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ndr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о</a:t>
            </a:r>
            <a:r>
              <a:rPr b="0" lang="sr-Latn-RS" sz="36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sr-RS" sz="36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4830480" cy="27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кзосто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нтериорн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тур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21891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362320" cy="26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2" name="Picture 3" descr="I Neurology 1"/>
          <p:cNvPicPr/>
          <p:nvPr/>
        </p:nvPicPr>
        <p:blipFill>
          <a:blip r:embed="rId2"/>
          <a:stretch/>
        </p:blipFill>
        <p:spPr>
          <a:xfrm>
            <a:off x="539640" y="3213000"/>
            <a:ext cx="2406600" cy="2667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3" name="Picture 4" descr="lopta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3995640" y="1052640"/>
            <a:ext cx="1079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ch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l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96072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240000" cy="334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4932360" y="4653000"/>
            <a:ext cx="3600360" cy="11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Rectangle 6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ц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диог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ољаш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ш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во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стоид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t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v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1280" y="1268280"/>
            <a:ext cx="396072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5264280" y="1268280"/>
            <a:ext cx="326844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4464000" cy="18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ц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диог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егменту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имп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Ма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96072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60036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4572000" y="5013360"/>
            <a:ext cx="457200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Rectangle 6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ц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радиогр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астоид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ћел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абир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Темпоро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мандибуларни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ffff99"/>
                </a:solidFill>
                <a:latin typeface="Arial"/>
              </a:rPr>
              <a:t>зглоб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3428640"/>
            <a:ext cx="777708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ет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лав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ајоптерећени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овечије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рганиз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ств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ст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м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икулацио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ог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обод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рећ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зва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ежиш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Једи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ј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од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рекл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мбрионал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ласто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ртикулацио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екриве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васкуларни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фиброзни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кив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обичаје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ијалин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рскавиц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n1266"/>
          <p:cNvPicPr/>
          <p:nvPr/>
        </p:nvPicPr>
        <p:blipFill>
          <a:blip r:embed="rId1"/>
          <a:srcRect l="0" t="8919" r="0" b="3616"/>
          <a:stretch/>
        </p:blipFill>
        <p:spPr>
          <a:xfrm>
            <a:off x="4211640" y="1197000"/>
            <a:ext cx="4176720" cy="238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rcRect l="0" t="29007" r="42228" b="20591"/>
          <a:stretch/>
        </p:blipFill>
        <p:spPr>
          <a:xfrm>
            <a:off x="324000" y="1341360"/>
            <a:ext cx="46796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76720" y="160020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Коштан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ss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ibul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culum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ticul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ulum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ibul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ад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импанич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и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0" y="1268280"/>
            <a:ext cx="411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Хрскавичав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ни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с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оризонтал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л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згл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ор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нис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емпорал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о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енис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ндиларн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ат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ет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питулум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Везивни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RS" sz="2000" spc="-1" strike="noStrike" u="sng">
                <a:solidFill>
                  <a:srgbClr val="ffffff"/>
                </a:solidFill>
                <a:uFillTx/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Чау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лигамент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пољаш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густ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везив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нутрашњ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ој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окриве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танк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иновијо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3051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Rectangle 12"/>
          <p:cNvSpPr/>
          <p:nvPr/>
        </p:nvSpPr>
        <p:spPr>
          <a:xfrm>
            <a:off x="611280" y="530064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омпактн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ламел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онд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артикуларн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туберкул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фос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етрозна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ко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порус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акусти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артикулациони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ffffff"/>
                </a:solidFill>
                <a:latin typeface="Arial"/>
              </a:rPr>
              <a:t>ди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убин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гл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јам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17672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плита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5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6-7 </a:t>
            </a:r>
            <a:r>
              <a:rPr b="1" lang="sr-R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(6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дубок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8-9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492360" y="549360"/>
            <a:ext cx="5327640" cy="4005000"/>
            <a:chOff x="3492360" y="549360"/>
            <a:chExt cx="5327640" cy="4005000"/>
          </a:xfrm>
        </p:grpSpPr>
        <p:pic>
          <p:nvPicPr>
            <p:cNvPr id="84" name="Picture 4" descr=""/>
            <p:cNvPicPr/>
            <p:nvPr/>
          </p:nvPicPr>
          <p:blipFill>
            <a:blip r:embed="rId1"/>
            <a:srcRect l="6332" t="41028" r="47931" b="28585"/>
            <a:stretch/>
          </p:blipFill>
          <p:spPr>
            <a:xfrm>
              <a:off x="3492360" y="549360"/>
              <a:ext cx="5327640" cy="400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5" name="Line 5"/>
            <p:cNvSpPr/>
            <p:nvPr/>
          </p:nvSpPr>
          <p:spPr>
            <a:xfrm>
              <a:off x="3708360" y="2852640"/>
              <a:ext cx="39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>
              <a:off x="5651640" y="1989000"/>
              <a:ext cx="0" cy="8636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Rectangle 8"/>
          <p:cNvSpPr/>
          <p:nvPr/>
        </p:nvSpPr>
        <p:spPr>
          <a:xfrm>
            <a:off x="3564000" y="486900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Хоризонтал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ајниж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ачк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уберкулум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редин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орус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акус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ајудаљениј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тачк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ров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ф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7:08:22Z</dcterms:created>
  <dc:creator>Sony</dc:creator>
  <dc:description/>
  <dc:language>en-US</dc:language>
  <cp:lastModifiedBy>Milan Mijailovic</cp:lastModifiedBy>
  <dcterms:modified xsi:type="dcterms:W3CDTF">2024-08-29T09:22:11Z</dcterms:modified>
  <cp:revision>29</cp:revision>
  <dc:subject/>
  <dc:title>Radiologija temporomandibularnih zglobova</dc:title>
</cp:coreProperties>
</file>